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CD00-0A22-48AD-A852-F78EB4E2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DBF-9EE9-49B7-A42F-EF0090DD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9CA-4190-4DF8-93C1-E533B762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863-C418-4605-BEDE-88A7AB8B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D32-AFE7-418A-8E29-936D3E29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0977-65FE-4F2D-8FEC-26B05C86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67F-3F5B-45A0-8023-5F91235B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5363-5DB7-468F-9969-E900FDFD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E0A-5F27-474D-BD42-148D2BDB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7C80-27D0-4AB9-B853-308C9833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E05-9DE3-4D97-B454-48C04352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138-2A48-4124-8A07-BFE96239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68E4-2FFD-4D3E-9678-33B68E102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89120"/>
            <a:ext cx="700884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35080" y="800280"/>
            <a:ext cx="687384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738360"/>
            <a:ext cx="700884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2760" y="817560"/>
            <a:ext cx="69184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89000" y="793800"/>
            <a:ext cx="69645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817560"/>
            <a:ext cx="700884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2:04:28Z</dcterms:created>
  <dc:creator>bealst</dc:creator>
  <dc:description/>
  <dc:language>en-US</dc:language>
  <cp:lastModifiedBy>jayoig</cp:lastModifiedBy>
  <dcterms:modified xsi:type="dcterms:W3CDTF">2011-05-06T17:55:58Z</dcterms:modified>
  <cp:revision>1</cp:revision>
  <dc:subject/>
  <dc:title>Slide 1</dc:title>
</cp:coreProperties>
</file>